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FCFEB-DE3F-40FC-8616-A27435BE6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85B60-96D6-41C5-B1FE-A8AAF285B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7F89E-2C85-401F-B66E-502077E6F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B7A6C-350A-4743-BE3B-D049B7212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B39F7-B9A6-45A8-8516-DEC2FB7AF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848F7-BF16-4017-8814-028492910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AD095-5CA6-46ED-9588-3FFCF04C8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AE9F2-D9D3-4159-A6C2-DA89C3C31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B3330-62D6-46AA-9140-C91E9521E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E27FF-6999-4DB5-9601-0A606A223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2F146-3095-460E-9BD4-869B7286A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B6FF9-AD6C-45A7-A4E7-4C9780805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D24FE-4FD8-4967-A11C-E40BAA8C97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cameronartmuseum.com/" TargetMode="External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4920" y="277920"/>
            <a:ext cx="8381880" cy="12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tegrated Art Lessons:</a:t>
            </a:r>
            <a:br>
              <a:rPr sz="3600"/>
            </a:b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lassroom Resource for Teachers</a:t>
            </a:r>
            <a:br>
              <a:rPr sz="4500"/>
            </a:br>
            <a:br>
              <a:rPr sz="4500"/>
            </a:br>
            <a:br>
              <a:rPr sz="4500"/>
            </a:br>
            <a:br>
              <a:rPr sz="45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80880" y="1523880"/>
            <a:ext cx="82296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 marL="277560" indent="-277560"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Presented by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3300"/>
                </a:solidFill>
                <a:latin typeface="Arial"/>
              </a:rPr>
              <a:t>Cameron Art Museum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cc3300"/>
                </a:solidFill>
                <a:latin typeface="Arial"/>
              </a:rPr>
              <a:t>3201 South 17</a:t>
            </a:r>
            <a:r>
              <a:rPr b="0" lang="en-US" sz="1700" spc="-1" strike="noStrike" baseline="30000">
                <a:solidFill>
                  <a:srgbClr val="cc3300"/>
                </a:solidFill>
                <a:latin typeface="Arial"/>
              </a:rPr>
              <a:t>th</a:t>
            </a:r>
            <a:r>
              <a:rPr b="0" lang="en-US" sz="1700" spc="-1" strike="noStrike">
                <a:solidFill>
                  <a:srgbClr val="cc3300"/>
                </a:solidFill>
                <a:latin typeface="Arial"/>
              </a:rPr>
              <a:t> Stree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cc3300"/>
                </a:solidFill>
                <a:latin typeface="Arial"/>
              </a:rPr>
              <a:t>Wilmington, North Carolina 28412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cameronartmuseum.com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761040" y="3505320"/>
            <a:ext cx="7025040" cy="283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cooperation with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A+ Schools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University of North Carolina at Greensbo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. O. Box 2617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reensboro, North Carolina 27402-617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aplus-schools.uncg.ed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ded by a grant from the Corning Found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thor:  Martha Burdet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533520" y="380880"/>
            <a:ext cx="4572000" cy="275616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205560" y="3276720"/>
            <a:ext cx="8937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 fo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ometric shap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these paintings.  In painting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hapes may be a little uneven or imperfect. 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are three thin triangle shapes in the rocks  just 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left of the waterfa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int out any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quares, rectangles, triangles, circl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geometric shapes you can find.  Also look fo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re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mensional shap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ik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heres, cones, rectangular prism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5410080" y="380880"/>
            <a:ext cx="3200400" cy="268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457200" y="380880"/>
            <a:ext cx="4572000" cy="27561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368280" y="3392640"/>
            <a:ext cx="8415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ch painting would you choose as 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t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a stor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ch would you choose to write 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e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bout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are some words you might use in describing the se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chose?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kind of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or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e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ould you writ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5410080" y="380880"/>
            <a:ext cx="3276720" cy="2752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ormation about the art and the arti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2120" y="4038480"/>
            <a:ext cx="2971800" cy="15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itle:  “Falls in Cherokee County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rtist/Dates: William Frerichs, American, 1829-19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dium: oil on canv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ze: 22” x 36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089680" y="32367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181480" y="4038480"/>
            <a:ext cx="2971800" cy="15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itle: “Tayloe House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rtist/Dates:  Francis Speight, American, 1896-198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dium: oil on canv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ze: 30.75” x 34.75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ate:  19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457200" y="838080"/>
            <a:ext cx="4343400" cy="26179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382320" y="5791320"/>
            <a:ext cx="839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else would you like to know about the art or the artis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can you find ou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5334120" y="838080"/>
            <a:ext cx="3124080" cy="262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209680" y="304560"/>
            <a:ext cx="4572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sson Eighte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33520" y="4191120"/>
            <a:ext cx="82296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grated Conce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nguage Arts: descriptive language, setting, oral languag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cial Studies: landforms, land use, clim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sual Art: color, line, shape, texture, space, v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04920" y="1066680"/>
            <a:ext cx="4572000" cy="27561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5181480" y="1066680"/>
            <a:ext cx="3276720" cy="2752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33520" y="304920"/>
            <a:ext cx="8153280" cy="49147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55040" y="5334120"/>
            <a:ext cx="7467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ke a few minutes to study thi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ndscape paint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are some things you notice about the paint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905120" y="457200"/>
            <a:ext cx="5333760" cy="32148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914040" y="3886200"/>
            <a:ext cx="8046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do you think this scene i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cat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  Tell wh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ndform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tural featur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an you identif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can you predict about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ma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as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ro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viden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the painting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94480" y="115920"/>
            <a:ext cx="6852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w spend a few minutes looking at this pain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notice about this painting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523880" y="1371600"/>
            <a:ext cx="6121440" cy="5141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69720" y="293760"/>
            <a:ext cx="7611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ere could we find a scene that looks lik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s paint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877280" y="1066680"/>
            <a:ext cx="40791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tai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this pain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viden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bout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c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have you seen 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ce that looks similar 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paint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you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dentif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crop i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field?  How can you tel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viden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how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as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this paint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533520" y="1676520"/>
            <a:ext cx="4190760" cy="3519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380880" y="1066680"/>
            <a:ext cx="4572000" cy="275616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228240" y="228600"/>
            <a:ext cx="8915400" cy="4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t’s think about how the artists created these paint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12360" y="4114800"/>
            <a:ext cx="7822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would you describe how each artist use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l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es each artist giv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ew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 sense of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a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you describe how the artists showed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x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plants, rocks, and wat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5257800" y="1066680"/>
            <a:ext cx="3276720" cy="2752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57200" y="1143000"/>
            <a:ext cx="4572000" cy="275580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228600" y="228600"/>
            <a:ext cx="8686800" cy="4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ice how each artist used value in their pain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93400" y="4078440"/>
            <a:ext cx="80078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alu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scribes how dark or light each area look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you point out the very dark (high value) areas in e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inting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are the lightest (low value) areas in each paint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5334120" y="1109520"/>
            <a:ext cx="3276360" cy="2752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380880"/>
            <a:ext cx="4572000" cy="275616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304920" y="3429000"/>
            <a:ext cx="85341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do you se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ne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each of these paintings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 for straight, curved, broken, and uneven li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es are sometimes seen a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lines or edges of sha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ed marks, shapes or col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ths, roads, fences, row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5410080" y="380880"/>
            <a:ext cx="3276720" cy="27529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artha Burdette</cp:lastModifiedBy>
  <dcterms:modified xsi:type="dcterms:W3CDTF">2007-07-26T22:44:13Z</dcterms:modified>
  <cp:revision>7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